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4C2-1C0A-4B41-B9C5-CBAB67FD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C4D-BFE8-4B23-9935-685C4520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B67-6EED-4626-AD31-C6218FBB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615-A04A-4694-A12F-3055CF5C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D9A7-C5B5-4D8E-AF80-9258B34F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FF92-8261-4DC1-9367-26BE1634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2570-C759-4A9C-8382-CC261853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0180-6786-4142-866E-EBEE6F1E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4DF1-C3D8-43C9-B019-CD97C4D2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9D74-A6E5-448D-8F56-627A0402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C734-A329-4CA5-BB9D-4E03F35A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FC3-F0D9-4A23-BEED-A258214E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7C5A-5989-4E4E-8E0C-A0D7FBF4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BA8A-CDE7-4FB6-BE85-22688572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693F-9F6C-4350-AE22-F16E6461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EA69-8599-4C77-8D3F-802D6F16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2E14-34C8-463E-B2F6-1E37D996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65F7-067C-4FF0-8651-ADFDFF8C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CDE-6695-4C13-864C-7148E293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C74-340F-4CFD-B748-FA218C83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31C-BC58-4BC8-8076-A7F1CF84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F6D-EB38-4138-8B59-60B47BDC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4C4-6396-438A-9B05-D8C44646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5F8-46DF-47C8-8158-21E3EFDA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ACF0-14AE-4A0C-A5BE-6097428969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3C67-171F-43CA-938C-CB75AF248A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ork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’s 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r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i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 from Romani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5000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mureanu Maria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8960" y="27428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a a IV-a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d so on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un Geor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Macry Vict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   Chiorpeacu  Teon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8960" y="27428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a a VIII-a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cu Alexandra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27428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a a VIII-a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3:47:31Z</dcterms:created>
  <dc:creator>s</dc:creator>
  <dc:description/>
  <dc:language>en-US</dc:language>
  <cp:lastModifiedBy>s</cp:lastModifiedBy>
  <dcterms:modified xsi:type="dcterms:W3CDTF">2010-05-04T08:34:24Z</dcterms:modified>
  <cp:revision>3</cp:revision>
  <dc:subject/>
  <dc:title>Storys of storks from Romania</dc:title>
</cp:coreProperties>
</file>